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91F-306A-4A50-B866-2E34D068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668-95C9-401D-8483-725AA6B0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146-9E30-449F-A4B6-1D263789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7CE-C6C9-4354-9149-D27FD6C3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066-DE9D-48F8-AE0E-4B6BA84C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97A-5047-4944-BCA4-42DB9325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DB2-F717-4F60-9420-5081369E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F67-55D6-43F6-8E0C-1E0FA72A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15E-FB2C-41C2-8644-B3FFB837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97D-B532-41B9-86F4-DA7E150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2E8-3B01-4CA5-9DE7-18F9059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C42-F771-4DDD-BD10-67314C4D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BF77-C611-43CF-B90D-F947D59E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36680" y="-665280"/>
            <a:ext cx="7732800" cy="1047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16080" y="-304920"/>
            <a:ext cx="4678560" cy="4050000"/>
          </a:xfrm>
          <a:custGeom>
            <a:avLst/>
            <a:gdLst/>
            <a:ahLst/>
            <a:rect l="l" t="t" r="r" b="b"/>
            <a:pathLst>
              <a:path w="2947" h="2551">
                <a:moveTo>
                  <a:pt x="2947" y="306"/>
                </a:moveTo>
                <a:lnTo>
                  <a:pt x="2695" y="240"/>
                </a:lnTo>
                <a:lnTo>
                  <a:pt x="2599" y="48"/>
                </a:lnTo>
                <a:lnTo>
                  <a:pt x="2023" y="0"/>
                </a:lnTo>
                <a:lnTo>
                  <a:pt x="1159" y="528"/>
                </a:lnTo>
                <a:lnTo>
                  <a:pt x="439" y="1584"/>
                </a:lnTo>
                <a:lnTo>
                  <a:pt x="0" y="2009"/>
                </a:lnTo>
                <a:lnTo>
                  <a:pt x="188" y="2551"/>
                </a:lnTo>
              </a:path>
            </a:pathLst>
          </a:custGeom>
          <a:noFill/>
          <a:ln w="63360">
            <a:solidFill>
              <a:srgbClr val="cc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733920"/>
            <a:ext cx="6216480" cy="5340240"/>
          </a:xfrm>
          <a:custGeom>
            <a:avLst/>
            <a:gdLst/>
            <a:ahLst/>
            <a:rect l="l" t="t" r="r" b="b"/>
            <a:pathLst>
              <a:path w="3916" h="3364">
                <a:moveTo>
                  <a:pt x="0" y="0"/>
                </a:moveTo>
                <a:lnTo>
                  <a:pt x="1218" y="417"/>
                </a:lnTo>
                <a:lnTo>
                  <a:pt x="3620" y="1080"/>
                </a:lnTo>
                <a:lnTo>
                  <a:pt x="3444" y="2080"/>
                </a:lnTo>
                <a:lnTo>
                  <a:pt x="3476" y="2300"/>
                </a:lnTo>
                <a:lnTo>
                  <a:pt x="3507" y="3108"/>
                </a:lnTo>
                <a:lnTo>
                  <a:pt x="3916" y="3364"/>
                </a:lnTo>
              </a:path>
            </a:pathLst>
          </a:custGeom>
          <a:noFill/>
          <a:ln w="63360">
            <a:solidFill>
              <a:srgbClr val="ff66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87480" y="3798720"/>
            <a:ext cx="2221200" cy="1611360"/>
          </a:xfrm>
          <a:custGeom>
            <a:avLst/>
            <a:gdLst/>
            <a:ahLst/>
            <a:rect l="l" t="t" r="r" b="b"/>
            <a:pathLst>
              <a:path w="1399" h="1015">
                <a:moveTo>
                  <a:pt x="0" y="0"/>
                </a:moveTo>
                <a:lnTo>
                  <a:pt x="1273" y="443"/>
                </a:lnTo>
                <a:lnTo>
                  <a:pt x="1399" y="775"/>
                </a:lnTo>
                <a:lnTo>
                  <a:pt x="1399" y="1015"/>
                </a:lnTo>
              </a:path>
            </a:pathLst>
          </a:custGeom>
          <a:noFill/>
          <a:ln w="63360">
            <a:solidFill>
              <a:srgbClr val="008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90320" y="968400"/>
            <a:ext cx="263592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ark Red Line dep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oute to/from R-25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3200" y="3481560"/>
            <a:ext cx="249264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reen Line dep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oute to/from R-2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800" y="4319640"/>
            <a:ext cx="249264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Orange Line dep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route to/from R-23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9:42:07Z</dcterms:created>
  <dc:creator>HP Authorized Customer</dc:creator>
  <dc:description/>
  <dc:language>en-US</dc:language>
  <cp:lastModifiedBy>MillerTL</cp:lastModifiedBy>
  <dcterms:modified xsi:type="dcterms:W3CDTF">2008-04-24T15:20:42Z</dcterms:modified>
  <cp:revision>5</cp:revision>
  <dc:subject/>
  <dc:title>Slide 1</dc:title>
</cp:coreProperties>
</file>